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3371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398840" y="0"/>
            <a:ext cx="337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4EA2B-1433-472B-AF72-EA9558559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22575-9FF8-4E80-99ED-D18FD9026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69BF3-FC84-4DFC-82EA-6F09E52C3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EB729-DF9D-4D06-A082-6356C41BF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4F4D9-C71A-40CF-A538-3E50CC630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7CF12-0390-4CA0-B214-6479C14B4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31260-64BC-4A3C-978B-090B5C45F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EB029-834E-4F37-A920-53A521B03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D8E3C-2A78-4519-9321-0E0085227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935C6-B4A0-4FF1-9B81-BD450FDA3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B622D-35DE-4A0F-BCEB-4D53E7E3A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B15D4-A442-46BD-8E9F-90043431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1450D-A98D-4708-B5CF-392CD1BA5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5CAE7-E9D4-4A1E-9A42-3D871AE17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BE4FE-9B64-4DC0-B6F1-AE70750D5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59B3-06A0-462A-8DCA-D685576D1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7C213-7078-4FE9-9099-A090D02C6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8B26-1AF5-4255-A1C1-0FC748491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5BE2-70B3-4A53-8C53-E35123149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7018-B752-49D1-9579-2C6F0F5BB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65C4-2316-4276-8FDA-B9B70EABA7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A685-61B5-4C08-8A05-4033E63B8D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DAC6-492E-4D40-8380-37675733F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BDD8-73C4-400E-94E2-98F423E97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1E98-D183-4196-9D1D-F095C9DD2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923C-5D2A-4D0B-A915-BCB35ED1D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976F-38E1-4AD7-BD38-F8980EBAB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EF65-07AC-4253-9BE3-465BF99E8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ECD8-33FA-4B26-AB38-E39741FF7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6C5BA-3CEC-42B9-BFF0-E46D645BA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 – Copy the questions onto the new do now sheet then answer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1. What force affects a falling object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2. Does the speed of the object increase or decrease as it fall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685800"/>
            <a:ext cx="93726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lying objects are affected by special fo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y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Li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r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685800" y="182520"/>
            <a:ext cx="780264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, the air is not empty!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full of ato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0" t="0" r="0" b="54569"/>
          <a:stretch/>
        </p:blipFill>
        <p:spPr>
          <a:xfrm>
            <a:off x="1541520" y="2286000"/>
            <a:ext cx="70009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6858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rag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is the air pushing on an object as it fl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rag slows flying objects d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25760" y="3629160"/>
            <a:ext cx="4027320" cy="36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85800" y="287280"/>
            <a:ext cx="89154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ft is the air pushing up on a flying ob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ft helps keep an object in the 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rcRect l="0" t="25939" r="0" b="38176"/>
          <a:stretch/>
        </p:blipFill>
        <p:spPr>
          <a:xfrm>
            <a:off x="1447920" y="3200400"/>
            <a:ext cx="7010280" cy="2514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3"/>
          <p:cNvSpPr/>
          <p:nvPr/>
        </p:nvSpPr>
        <p:spPr>
          <a:xfrm>
            <a:off x="2743200" y="2971800"/>
            <a:ext cx="3429000" cy="1371600"/>
          </a:xfrm>
          <a:prstGeom prst="roundRect">
            <a:avLst>
              <a:gd name="adj" fmla="val 1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5029200" y="5943600"/>
            <a:ext cx="685800" cy="1143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7008840" y="5943600"/>
            <a:ext cx="685800" cy="1143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2514600" y="5943600"/>
            <a:ext cx="685800" cy="1143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28600" y="290520"/>
            <a:ext cx="9601200" cy="71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practice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force slows down a flying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 Air pushes up on flying objects. What is the name of this for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685800" y="685800"/>
            <a:ext cx="8915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ape of a flying object changes how well it will fly...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174080" y="4543560"/>
            <a:ext cx="2901960" cy="288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982960" y="5303880"/>
            <a:ext cx="4145040" cy="212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992240" y="2360520"/>
            <a:ext cx="5075280" cy="279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182520" y="5303880"/>
            <a:ext cx="2800440" cy="21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 throw a paper airplane through the air, what force keeps it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What force in the air slows airplanes down?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What force slows down a skydiver with a  parachute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What force helps a bird fly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or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chute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 team r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 kee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chute Dropper (someone tall is probably be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chute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-33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 – Hold the toy person WITHOUT the parachute at the same level as the tape on the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 – Drop the toy person.  The timekeeper should time how long it takes the toy to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 – Record the time in the trial 1 box on your team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 – Repeat steps 1-3 two more times.  Record the times on your paper in the trial 2 and 3 bo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chute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5 – Calculate the speed.  Divide the distance (3 meters) by your ti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3/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chute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6 – Hold the toy person WITH the parachute at the same level as the tape on the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7 – Drop the toy person.  The timekeeper should time how long it takes the toy to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8 – Record the time in the trial 1 box on your team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9 – Repeat steps 1-3 two more times.  Record the times on your paper in the trial 2 and 3 bo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chute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0 – Calculate the speed.  Divide the distance (3 meters) by your ti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3/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 on the bottom of your lab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685800" y="457200"/>
            <a:ext cx="9144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's review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 What is a surface with high fr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 What is a surface with low fr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1143000" y="685800"/>
            <a:ext cx="6297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YING OBJECTS!!!!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107040" y="5008680"/>
            <a:ext cx="3581640" cy="223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2363760"/>
            <a:ext cx="3570120" cy="5181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3570120" y="4237200"/>
            <a:ext cx="2146320" cy="309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6259680" y="1432080"/>
            <a:ext cx="2895480" cy="28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2:57:06Z</dcterms:created>
  <dc:creator>molly schumer</dc:creator>
  <dc:description/>
  <dc:language>en-US</dc:language>
  <cp:lastModifiedBy>Caroline Roth</cp:lastModifiedBy>
  <dcterms:modified xsi:type="dcterms:W3CDTF">2011-02-21T04:21:15Z</dcterms:modified>
  <cp:revision>14</cp:revision>
  <dc:subject/>
  <dc:title>PowerPoint Presentation</dc:title>
</cp:coreProperties>
</file>